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C2B-4C4A-40CD-AAC6-DC089AD7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15A-FAB6-43FF-91E3-72A6BCB3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07C-80C0-4968-9D48-4953FFBC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C20-FD84-46C2-8119-9CD5C17D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E17-12C0-46C3-95C9-2EBCBA3B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155-1954-45D0-B39C-1944CE15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0DE-3CE6-4102-94D4-20281E7B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024-1C1D-4443-B6AC-6A6B4798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335-BF01-410F-8A35-8C7402CB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F78-8B5C-4739-BA78-026159DA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D5C-BB4A-46E2-8F49-661F9C25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775-F51C-4D2C-A08A-159F83F1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2C2E-7AE6-4B8B-B04D-A18DBCD65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"/>
          <p:cNvSpPr/>
          <p:nvPr/>
        </p:nvSpPr>
        <p:spPr>
          <a:xfrm>
            <a:off x="2438280" y="6095880"/>
            <a:ext cx="4496040" cy="22860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ademic Content Standar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5"/>
          <p:cNvSpPr/>
          <p:nvPr/>
        </p:nvSpPr>
        <p:spPr>
          <a:xfrm>
            <a:off x="2590920" y="5791320"/>
            <a:ext cx="4267080" cy="2286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Standards &amp; Supporting Standar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ounded Rectangle 6"/>
          <p:cNvSpPr/>
          <p:nvPr/>
        </p:nvSpPr>
        <p:spPr>
          <a:xfrm>
            <a:off x="685800" y="5334120"/>
            <a:ext cx="7696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pe, Sequence, and Pacing of Curricular Units for Each Content Area, Grade Level, and Cour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1905120" y="4724280"/>
            <a:ext cx="5638680" cy="38124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-Based Common Formative (Pre-) Assessment and Data Teams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ounded Rectangle 8"/>
          <p:cNvSpPr/>
          <p:nvPr/>
        </p:nvSpPr>
        <p:spPr>
          <a:xfrm>
            <a:off x="1447920" y="3886200"/>
            <a:ext cx="1981080" cy="609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 Instruction, Differentiation, and Intervention Strateg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9"/>
          <p:cNvSpPr/>
          <p:nvPr/>
        </p:nvSpPr>
        <p:spPr>
          <a:xfrm>
            <a:off x="228600" y="320040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l Progress-Monitoring Chec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10"/>
          <p:cNvSpPr/>
          <p:nvPr/>
        </p:nvSpPr>
        <p:spPr>
          <a:xfrm>
            <a:off x="990720" y="24382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d-Uni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 of Targeted Strateg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1523880" y="1447920"/>
            <a:ext cx="2819520" cy="5331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-of-Course/End-of-Grade Summative Assess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12"/>
          <p:cNvSpPr/>
          <p:nvPr/>
        </p:nvSpPr>
        <p:spPr>
          <a:xfrm>
            <a:off x="1905120" y="457200"/>
            <a:ext cx="571500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ual State or Provincial Assess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13"/>
          <p:cNvSpPr/>
          <p:nvPr/>
        </p:nvSpPr>
        <p:spPr>
          <a:xfrm>
            <a:off x="5105520" y="1447920"/>
            <a:ext cx="3504960" cy="5331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ct or School Division Benchmark Assessments (Formative or Summativ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14"/>
          <p:cNvSpPr/>
          <p:nvPr/>
        </p:nvSpPr>
        <p:spPr>
          <a:xfrm>
            <a:off x="5562720" y="2362320"/>
            <a:ext cx="2971800" cy="3045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l Progress-Monitoring Chec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15"/>
          <p:cNvSpPr/>
          <p:nvPr/>
        </p:nvSpPr>
        <p:spPr>
          <a:xfrm>
            <a:off x="5867280" y="3124080"/>
            <a:ext cx="3048120" cy="5335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-Based Common Formative (Post) Assessment and Data Teams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ounded Rectangle 16"/>
          <p:cNvSpPr/>
          <p:nvPr/>
        </p:nvSpPr>
        <p:spPr>
          <a:xfrm>
            <a:off x="5562720" y="39625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richment, Remediation, Intervention Prior to Next Curricular Un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Up Arrow 20"/>
          <p:cNvSpPr/>
          <p:nvPr/>
        </p:nvSpPr>
        <p:spPr>
          <a:xfrm>
            <a:off x="2133720" y="6019920"/>
            <a:ext cx="228600" cy="444240"/>
          </a:xfrm>
          <a:prstGeom prst="upArrow">
            <a:avLst>
              <a:gd name="adj1" fmla="val 50000"/>
              <a:gd name="adj2" fmla="val 499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Up Arrow 21"/>
          <p:cNvSpPr/>
          <p:nvPr/>
        </p:nvSpPr>
        <p:spPr>
          <a:xfrm>
            <a:off x="1600200" y="4572000"/>
            <a:ext cx="228600" cy="444600"/>
          </a:xfrm>
          <a:prstGeom prst="upArrow">
            <a:avLst>
              <a:gd name="adj1" fmla="val 50000"/>
              <a:gd name="adj2" fmla="val 49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Up Arrow 22"/>
          <p:cNvSpPr/>
          <p:nvPr/>
        </p:nvSpPr>
        <p:spPr>
          <a:xfrm>
            <a:off x="2971800" y="914400"/>
            <a:ext cx="228600" cy="444600"/>
          </a:xfrm>
          <a:prstGeom prst="upArrow">
            <a:avLst>
              <a:gd name="adj1" fmla="val 50000"/>
              <a:gd name="adj2" fmla="val 49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Up Arrow 23"/>
          <p:cNvSpPr/>
          <p:nvPr/>
        </p:nvSpPr>
        <p:spPr>
          <a:xfrm>
            <a:off x="6553080" y="914400"/>
            <a:ext cx="228600" cy="444600"/>
          </a:xfrm>
          <a:prstGeom prst="upArrow">
            <a:avLst>
              <a:gd name="adj1" fmla="val 50000"/>
              <a:gd name="adj2" fmla="val 49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Up Arrow 24"/>
          <p:cNvSpPr/>
          <p:nvPr/>
        </p:nvSpPr>
        <p:spPr>
          <a:xfrm>
            <a:off x="2743200" y="2057400"/>
            <a:ext cx="228600" cy="291960"/>
          </a:xfrm>
          <a:prstGeom prst="upArrow">
            <a:avLst>
              <a:gd name="adj1" fmla="val 50000"/>
              <a:gd name="adj2" fmla="val 498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Up Arrow 25"/>
          <p:cNvSpPr/>
          <p:nvPr/>
        </p:nvSpPr>
        <p:spPr>
          <a:xfrm>
            <a:off x="6705720" y="2057400"/>
            <a:ext cx="152280" cy="291960"/>
          </a:xfrm>
          <a:prstGeom prst="upArrow">
            <a:avLst>
              <a:gd name="adj1" fmla="val 50000"/>
              <a:gd name="adj2" fmla="val 499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3505320" y="26668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icular Unit of Study with Engaging Learning Experiences Based on “Unwrapped” Priority Standards, Big Ideas, and Essential Ques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urved Down Arrow 38"/>
          <p:cNvSpPr/>
          <p:nvPr/>
        </p:nvSpPr>
        <p:spPr>
          <a:xfrm>
            <a:off x="3581280" y="2133720"/>
            <a:ext cx="1905120" cy="380880"/>
          </a:xfrm>
          <a:custGeom>
            <a:avLst/>
            <a:gdLst>
              <a:gd name="textAreaLeft" fmla="*/ 440640 w 1905120"/>
              <a:gd name="textAreaRight" fmla="*/ 1416960 w 19051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urved Up Arrow 39"/>
          <p:cNvSpPr/>
          <p:nvPr/>
        </p:nvSpPr>
        <p:spPr>
          <a:xfrm>
            <a:off x="3581280" y="4191120"/>
            <a:ext cx="1981440" cy="380880"/>
          </a:xfrm>
          <a:custGeom>
            <a:avLst/>
            <a:gdLst>
              <a:gd name="textAreaLeft" fmla="*/ 459360 w 1981440"/>
              <a:gd name="textAreaRight" fmla="*/ 1474200 w 198144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21" hR="21600" stAng="10800000" swAng="-5400000"/>
                <a:lnTo>
                  <a:pt x="11060" y="21600"/>
                </a:lnTo>
                <a:arcTo wR="10021" hR="21600" stAng="5400000" swAng="-3654136"/>
                <a:lnTo>
                  <a:pt x="21282" y="5400"/>
                </a:lnTo>
                <a:lnTo>
                  <a:pt x="20562" y="0"/>
                </a:lnTo>
                <a:lnTo>
                  <a:pt x="19205" y="5400"/>
                </a:lnTo>
                <a:lnTo>
                  <a:pt x="19724" y="5400"/>
                </a:lnTo>
                <a:arcTo wR="10021" hR="21600" stAng="1745864" swAng="3571360"/>
                <a:lnTo>
                  <a:pt x="10541" y="21571"/>
                </a:lnTo>
                <a:arcTo wR="10021" hR="21600" stAng="5482776" swAng="5317224"/>
                <a:close/>
              </a:path>
              <a:path fill="darkenLess" w="21600" h="21600">
                <a:moveTo>
                  <a:pt x="0" y="0"/>
                </a:moveTo>
                <a:arcTo wR="10021" hR="21600" stAng="10800000" swAng="-5400000"/>
                <a:lnTo>
                  <a:pt x="11060" y="21600"/>
                </a:lnTo>
                <a:arcTo wR="10021" hR="21600" stAng="5400000" swAng="82776"/>
                <a:lnTo>
                  <a:pt x="10541" y="21571"/>
                </a:lnTo>
                <a:arcTo wR="10021" hR="21600" stAng="5482776" swAng="531722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dapted from Planning for Rigorous Curriculum Design, 2010 - Ainsw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1:48:49Z</dcterms:created>
  <dc:creator>Eagle Schools</dc:creator>
  <dc:description/>
  <dc:language>en-US</dc:language>
  <cp:lastModifiedBy>Eagle Schools</cp:lastModifiedBy>
  <dcterms:modified xsi:type="dcterms:W3CDTF">2010-11-16T02:41:25Z</dcterms:modified>
  <cp:revision>6</cp:revision>
  <dc:subject/>
  <dc:title>Slide 1</dc:title>
</cp:coreProperties>
</file>